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ECE-E156-4FDA-9584-D32FD191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104-2A92-4B4A-8917-254C31B0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ECC-98B3-4586-A641-80992F69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482-0D55-4D0B-ADDE-4B8FB068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CE11-0EF8-4DC5-95FE-AD90EA28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80C2-0E54-4116-8503-8891CDB2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DE5A-CB93-4249-B9C9-7B2538EF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A5FE-D1B2-4BB5-943A-BD103F54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F017-1693-4F7F-9A30-DE19CED9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D749-0421-445D-B7F2-097D51B0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9240-FCB5-4F16-9B27-3CE0FF6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F3D-122A-4891-89E1-8936425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BDEF-FC0B-41C1-8327-21A31581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3065-E9CC-4963-BF3C-B6B00B1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13C8-5A5A-4C00-AC88-24282E6C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60F-8D57-49A2-823F-096EEB1A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E071-8C4F-4211-A717-A10A5820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DED-9AA9-4FBB-8CCE-EEAA30D8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1BD-A880-4494-8E8B-EC427C52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C9D-A26B-400B-BB31-D3D4E4B6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9D3-03F0-43D7-AD07-5751E17C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C8C-FD83-45C4-9C6C-268C576E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0A1-3C0C-4E1E-A15D-FB42D7F6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95E-D6E0-4367-8399-34E38C9F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E48B-ACBB-415C-9294-EE4B3AC99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CC4-BFEC-4FC5-8E04-737A959D0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areer Planning Research Activit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0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: 11/15/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the difference between a job and a caree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438280"/>
            <a:ext cx="800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job is work that you do mainly to earn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areer is a commitment to work in a field that you find interesting and fulfill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earch a career that you are interested in pursu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career survey websites and personal references if avail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ill be graded i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RE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lms for 100 points in ea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 Class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 Poster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 Writing Assig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.  Class Research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 Research will be graded on participation during guided computer ti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will include career surveys, personal career investigations, and class discus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.  Poster Presentation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11430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e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—what skills are nee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ary—what is the salary range for this care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—what type of education do you need?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? A trade? Colle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s—what type of traits are needed to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at your chosen profess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and drawings—at least two pictures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s related to your career. Make sure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large enough to be seen from a distanc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at you include captions to provide furt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about your pi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  Writing Assignment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9144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interested in this specific care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projected job prospects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that want to pursue this care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in the next 8-10 ye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s—what type of traits are needed to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at your chosen profess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Reflection—what makes you a goo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 for this profession?  What strengths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do you possess that could add to t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ations--Where did you get your answers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eer Research Restric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esearch any career that is il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, do not research careers that deal with professional athletics, show business, or any other profession where the percentage of participation is miniscu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become a professional athlete or an A-list celebrity that will be great. For now, however, research a more plausible career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spend time using the school’s computer labs you will be responsible for finishing any part of the assignment that you don’t finish during class time. Use your time wisel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7:17:32Z</dcterms:created>
  <dc:creator>Sys Admin</dc:creator>
  <dc:description/>
  <dc:language>en-US</dc:language>
  <cp:lastModifiedBy>SysAdmin</cp:lastModifiedBy>
  <dcterms:modified xsi:type="dcterms:W3CDTF">2011-11-07T13:16:57Z</dcterms:modified>
  <cp:revision>40</cp:revision>
  <dc:subject/>
  <dc:title>Slide 1</dc:title>
</cp:coreProperties>
</file>